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9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E9A-AA8D-4E52-A9B0-3E68EF64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0D6-0762-4178-807E-11139E61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F35-26E9-4ABE-82B7-E0575D34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4F4-F822-4FB7-96AD-C6972367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E75C-F63B-46AF-9189-E69BB37E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584D-71D4-46DE-AAD5-0458D7EB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3E3A-588D-4E15-9983-E59AD0D3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7F94-B296-4A08-9234-ACDC45CC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10A2-606F-4946-ABC2-95A932BB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C7A7-1A3D-4083-ACE8-D46CF1C7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A8A2-A20A-40DD-9DD9-4B698802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3ED-9631-460B-A4B7-B124DA9A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525B-8EA1-434A-897A-C577536E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C6C0-D544-4D97-B900-EA15742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E8B8-BC62-418B-AAD0-4CC1298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7AC8-826B-46FE-BB49-E748A12A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E591-03E3-4C7B-B34F-D742BB07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95A-38B6-466C-BE9D-D91035C4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15B-9372-43AE-973C-C48FD61F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827-089A-4D24-B771-E2641584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143-E886-42A7-B7EB-6D21839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E87-3B51-47DF-ACEE-BAC94E0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CB6-A34E-490A-A5C2-E67550F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547-14AE-443C-BF3A-298AB43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81A2-CF47-4F78-987C-4E8A4AA46D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E086-A755-437F-A9DB-8E529EB233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Unit B: Human Bod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til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a tough fibrous connective tissue that provides support to the skelton at points throughout the bod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composed of specialized cells that are enclosed by jellylike medium of collagen and tough prote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14800" y="4648320"/>
            <a:ext cx="3962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6 types of J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l and S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yl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ll and Sock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joint has a ball shape on the end of one bone And a cup shape on the other. This allows a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movement in shou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3810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dyloid Joi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n oval shape bone that fits into an egg shaped cavity of another bone that causes an angular motion. This is located in the palm of hand fingers , heel and to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6400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ddle Joint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dle is located in the thumb. This is a joint where both bones that are connected concave and convex regions that complement one another and allow a wide range of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62520" y="3886200"/>
            <a:ext cx="5029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ivot J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joint has rounded surfaces that form a pivot like process that turns within a r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5336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nge Joi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joint is where one bone fits into a concave depression in another bone that permits only flexion and extension as in the elbows and kne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liding Joi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ere flat surfaces move against on another a sliding movement as the wrist and ank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701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azing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bone is the pel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est bone is the fem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s need Vitamin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bone is the stirr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ull has eight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facial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 verteb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y do we have a skeleton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ire skeleton compsed of 206 individual b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protection for the brain with the skull and the internal organs with the sternum and rib c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 of skeleton: provides a framework, movement, protection and it produces blood and stores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bones aliv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 or No and Expl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s are composed of two types of tissue. Spongy Bone and Compact 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gy: inside full of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ct: hard and forms protective surf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wo division of Skeletal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on 1: Axial Skeleton: consist of the skull, sternum, ribs and vertebral colu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on2:  Appendicular Skelet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 of the append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s, arms, should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elvic are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32240" y="2571840"/>
            <a:ext cx="477720" cy="1712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ur Types of B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Bones  have a cylinder or tube shape like the: Humerus, Femur, Ulna , Radius, Fibula Tibia and Phalanges. Act as lev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 Bones: are bones found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st and ank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 and cubed sha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0120" y="3276720"/>
            <a:ext cx="1139760" cy="1814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715000" y="4876920"/>
            <a:ext cx="1405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es of B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 bones: are of course flat. Shoulder blades and ribs belong to this group. Your cranium is also fl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92640" y="2940120"/>
            <a:ext cx="3608640" cy="3029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11160" y="4048200"/>
            <a:ext cx="1824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es of B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GULAR BONES: are the ones that fit into any of the other groups. They are odd shaped. Examples: tiny bones in your ear and the vertebrae in your backb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5120" y="3736800"/>
            <a:ext cx="48006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the Skeleton Mov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out by the relationship between skeletal and muscl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s connect the two systems by tendons and ligame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ons connect muscles to b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ments contect bone to 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 BO BO and TEN MU 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2:12:05Z</dcterms:created>
  <dc:creator>Cumberland County Schools</dc:creator>
  <dc:description/>
  <dc:language>en-US</dc:language>
  <cp:lastModifiedBy>Cumberland County Schools</cp:lastModifiedBy>
  <dcterms:modified xsi:type="dcterms:W3CDTF">2010-11-02T13:00:36Z</dcterms:modified>
  <cp:revision>3</cp:revision>
  <dc:subject/>
  <dc:title>Unit B: Human Body</dc:title>
</cp:coreProperties>
</file>